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44340-E866-49BF-BBF8-0384C916B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4E636-B7B5-4DCA-89FF-FE749A643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E1594-BB38-48F5-B8B3-8F4A46CA1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A366D-DE34-4DE2-BAD0-5C870040A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D1949-07B7-405E-A971-0E6485549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B6E0B-3C57-4A18-9B6B-64DDA433B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41C36-0E67-4428-ABAE-F2E06C03E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DFAA4-D42F-4B89-933E-75FDE6EA5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68A1A-46EC-434F-9AA8-13BBDE37A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0EB8A-5E89-43DE-A919-A050341A0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D6CDE-7953-4696-9F02-3A97481B8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D3B08-2C71-4E97-BB49-A726A3DA4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3FD73-AFB6-4CCC-B7DF-CBD3271725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uck Fin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574560"/>
            <a:ext cx="2933640" cy="2406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200400" y="1523880"/>
            <a:ext cx="570564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uck Finn not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k Tw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uel Clemens born with Halley's comet- died 75 years later with Halley's com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ver to freedom Jim – Ms Watson's sl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uck Finn's best friend protagonis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tire about slavery polks fun or mocks the institution of slav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es about slavery in the sout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6T16:36:33Z</dcterms:created>
  <dc:creator>dcsuser</dc:creator>
  <dc:description/>
  <dc:language>en-US</dc:language>
  <cp:lastModifiedBy>dcsuser</cp:lastModifiedBy>
  <dcterms:modified xsi:type="dcterms:W3CDTF">2012-01-10T16:52:58Z</dcterms:modified>
  <cp:revision>4</cp:revision>
  <dc:subject/>
  <dc:title>Huck Finn</dc:title>
</cp:coreProperties>
</file>